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145-C4C6-4297-85E5-A462043F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C4F-8FFD-419E-ACF7-AB66F196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52B-5FB7-4E7E-846A-8F5622C7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BC9-C8EF-401B-A911-95F0B328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22B-B949-4E1C-83B9-21D3252E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7BE-8B6B-4EE8-98EA-88C98363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692-BA0F-4B66-A160-7DFBAB93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969-8571-498C-9B4F-54717596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91D-383D-4049-A346-24C4F828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F3D-15B7-4CB8-A7C4-D8EF4E18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A74-D344-44EA-93D3-2919A5C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9F7-E9B6-47D8-9EDA-0B89EED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3A415-51F1-4D80-9094-70D89D0B0B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2394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44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My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93880" y="4349880"/>
            <a:ext cx="617724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1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9"/>
          <p:cNvSpPr/>
          <p:nvPr/>
        </p:nvSpPr>
        <p:spPr>
          <a:xfrm>
            <a:off x="1019160" y="1828800"/>
            <a:ext cx="40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rker /'wɜːk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工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2054160" y="3635280"/>
            <a:ext cx="39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is uncle is a wor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叔叔是一名工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1253520" y="3056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2309040" y="2814480"/>
            <a:ext cx="32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ə(r)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1253520" y="38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6012000" y="1819440"/>
            <a:ext cx="246996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808360" y="1471680"/>
            <a:ext cx="33922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ct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医生把病瞧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ur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护士药拿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arm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农民起得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辛勤耕耘收成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iver driv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司机， 开车引路滴滴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ayer play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员， 为国争光不怕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2"/>
          <p:cNvGrpSpPr/>
          <p:nvPr/>
        </p:nvGrpSpPr>
        <p:grpSpPr>
          <a:xfrm>
            <a:off x="833400" y="1612800"/>
            <a:ext cx="1843200" cy="459720"/>
            <a:chOff x="833400" y="1612800"/>
            <a:chExt cx="1843200" cy="459720"/>
          </a:xfrm>
        </p:grpSpPr>
        <p:sp>
          <p:nvSpPr>
            <p:cNvPr id="144" name="TextBox 10"/>
            <p:cNvSpPr/>
            <p:nvPr/>
          </p:nvSpPr>
          <p:spPr>
            <a:xfrm>
              <a:off x="1149120" y="1612800"/>
              <a:ext cx="15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833400" y="166032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7"/>
          <p:cNvSpPr/>
          <p:nvPr/>
        </p:nvSpPr>
        <p:spPr>
          <a:xfrm>
            <a:off x="2712960" y="1600200"/>
            <a:ext cx="53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ere does he work?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他在哪里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18"/>
          <p:cNvSpPr/>
          <p:nvPr/>
        </p:nvSpPr>
        <p:spPr>
          <a:xfrm>
            <a:off x="895320" y="17413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9"/>
          <p:cNvSpPr/>
          <p:nvPr/>
        </p:nvSpPr>
        <p:spPr>
          <a:xfrm>
            <a:off x="1165320" y="1711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2712960" y="379584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ork in a supermar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在一家超市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book.gif"/>
          <p:cNvPicPr/>
          <p:nvPr/>
        </p:nvPicPr>
        <p:blipFill>
          <a:blip r:embed="rId2"/>
          <a:stretch/>
        </p:blipFill>
        <p:spPr>
          <a:xfrm>
            <a:off x="123840" y="16430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矩形 1"/>
          <p:cNvSpPr/>
          <p:nvPr/>
        </p:nvSpPr>
        <p:spPr>
          <a:xfrm>
            <a:off x="1760400" y="38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9"/>
          <p:cNvSpPr/>
          <p:nvPr/>
        </p:nvSpPr>
        <p:spPr>
          <a:xfrm>
            <a:off x="1943280" y="2336760"/>
            <a:ext cx="64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rk /wɜː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1952280" y="32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2976840" y="2963880"/>
            <a:ext cx="305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ɜ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1952280" y="5129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2"/>
          <p:cNvSpPr/>
          <p:nvPr/>
        </p:nvSpPr>
        <p:spPr>
          <a:xfrm>
            <a:off x="2798280" y="5032440"/>
            <a:ext cx="530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 h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努力工作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 o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wor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起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1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1106640" y="1419120"/>
            <a:ext cx="66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询问工作地点的常用句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1296000" y="373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2075040" y="3543480"/>
            <a:ext cx="4597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es your aun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姑母在哪里上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works in a fac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在一家工厂上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98160" y="22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7"/>
          <p:cNvSpPr/>
          <p:nvPr/>
        </p:nvSpPr>
        <p:spPr>
          <a:xfrm>
            <a:off x="2075040" y="2035080"/>
            <a:ext cx="45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/does sb.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"/>
          <p:cNvSpPr/>
          <p:nvPr/>
        </p:nvSpPr>
        <p:spPr>
          <a:xfrm>
            <a:off x="1298160" y="3003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1"/>
          <p:cNvSpPr/>
          <p:nvPr/>
        </p:nvSpPr>
        <p:spPr>
          <a:xfrm>
            <a:off x="2075040" y="2762280"/>
            <a:ext cx="64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b. + work/works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介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冠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点名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7"/>
          <p:cNvSpPr/>
          <p:nvPr/>
        </p:nvSpPr>
        <p:spPr>
          <a:xfrm>
            <a:off x="2996280" y="16653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rive to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车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18"/>
          <p:cNvSpPr/>
          <p:nvPr/>
        </p:nvSpPr>
        <p:spPr>
          <a:xfrm>
            <a:off x="985680" y="17683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9"/>
          <p:cNvSpPr/>
          <p:nvPr/>
        </p:nvSpPr>
        <p:spPr>
          <a:xfrm>
            <a:off x="1309680" y="17589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9" descr="book.gif"/>
          <p:cNvPicPr/>
          <p:nvPr/>
        </p:nvPicPr>
        <p:blipFill>
          <a:blip r:embed="rId2"/>
          <a:stretch/>
        </p:blipFill>
        <p:spPr>
          <a:xfrm>
            <a:off x="244440" y="16416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77" name="矩形 2"/>
          <p:cNvSpPr/>
          <p:nvPr/>
        </p:nvSpPr>
        <p:spPr>
          <a:xfrm>
            <a:off x="2026800" y="2581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2782800" y="2343240"/>
            <a:ext cx="599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ther drives to work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爸爸开车去上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26"/>
          <p:cNvGrpSpPr/>
          <p:nvPr/>
        </p:nvGrpSpPr>
        <p:grpSpPr>
          <a:xfrm>
            <a:off x="1576440" y="4195800"/>
            <a:ext cx="1244520" cy="459720"/>
            <a:chOff x="1576440" y="4195800"/>
            <a:chExt cx="1244520" cy="459720"/>
          </a:xfrm>
        </p:grpSpPr>
        <p:sp>
          <p:nvSpPr>
            <p:cNvPr id="180" name="TextBox 3"/>
            <p:cNvSpPr/>
            <p:nvPr/>
          </p:nvSpPr>
          <p:spPr>
            <a:xfrm>
              <a:off x="1829160" y="41958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576440" y="423432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矩形 2"/>
          <p:cNvSpPr/>
          <p:nvPr/>
        </p:nvSpPr>
        <p:spPr>
          <a:xfrm>
            <a:off x="2782800" y="4037040"/>
            <a:ext cx="53704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所给单词的正确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brother __________ (drive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4462560" y="48164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17"/>
          <p:cNvSpPr/>
          <p:nvPr/>
        </p:nvSpPr>
        <p:spPr>
          <a:xfrm>
            <a:off x="2984040" y="1714680"/>
            <a:ext cx="32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spital /'hɒspɪtl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医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8"/>
          <p:cNvSpPr/>
          <p:nvPr/>
        </p:nvSpPr>
        <p:spPr>
          <a:xfrm>
            <a:off x="1027080" y="1843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9"/>
          <p:cNvSpPr/>
          <p:nvPr/>
        </p:nvSpPr>
        <p:spPr>
          <a:xfrm>
            <a:off x="1297080" y="181296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2882880" y="2541600"/>
            <a:ext cx="527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is a hospital in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镇上有一家医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9" descr="book.gif"/>
          <p:cNvPicPr/>
          <p:nvPr/>
        </p:nvPicPr>
        <p:blipFill>
          <a:blip r:embed="rId2"/>
          <a:stretch/>
        </p:blipFill>
        <p:spPr>
          <a:xfrm>
            <a:off x="255600" y="174456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92" name="矩形 1"/>
          <p:cNvSpPr/>
          <p:nvPr/>
        </p:nvSpPr>
        <p:spPr>
          <a:xfrm>
            <a:off x="1863720" y="27874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1333440" y="4314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6"/>
          <p:cNvSpPr/>
          <p:nvPr/>
        </p:nvSpPr>
        <p:spPr>
          <a:xfrm>
            <a:off x="3254040" y="4321080"/>
            <a:ext cx="47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ct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医生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ur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护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6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47640" y="2349360"/>
          <a:ext cx="7799400" cy="3475080"/>
        </p:xfrm>
        <a:graphic>
          <a:graphicData uri="http://schemas.openxmlformats.org/drawingml/2006/table">
            <a:tbl>
              <a:tblPr/>
              <a:tblGrid>
                <a:gridCol w="1460520"/>
                <a:gridCol w="2433600"/>
                <a:gridCol w="3905280"/>
              </a:tblGrid>
              <a:tr h="1737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n a/t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在医院，可能是在医院工作，也可能是看护病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句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 uncle works in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ospital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的叔叔在一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医院工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n 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住院（生病在医院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句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 grandfather is 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nd he is in hospital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的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爷生病了，他在住院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9" name="矩形 2"/>
          <p:cNvSpPr/>
          <p:nvPr/>
        </p:nvSpPr>
        <p:spPr>
          <a:xfrm>
            <a:off x="1685880" y="1441440"/>
            <a:ext cx="50068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a/the hospita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8"/>
          <p:cNvSpPr/>
          <p:nvPr/>
        </p:nvSpPr>
        <p:spPr>
          <a:xfrm>
            <a:off x="842400" y="160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7"/>
          <p:cNvSpPr/>
          <p:nvPr/>
        </p:nvSpPr>
        <p:spPr>
          <a:xfrm>
            <a:off x="2786040" y="1731960"/>
            <a:ext cx="631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w does she go to work?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怎样去上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he goes to work by bike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骑自行车去上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18"/>
          <p:cNvSpPr/>
          <p:nvPr/>
        </p:nvSpPr>
        <p:spPr>
          <a:xfrm>
            <a:off x="934920" y="18399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9"/>
          <p:cNvSpPr/>
          <p:nvPr/>
        </p:nvSpPr>
        <p:spPr>
          <a:xfrm>
            <a:off x="1258920" y="18320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" descr="book.gif"/>
          <p:cNvPicPr/>
          <p:nvPr/>
        </p:nvPicPr>
        <p:blipFill>
          <a:blip r:embed="rId2"/>
          <a:stretch/>
        </p:blipFill>
        <p:spPr>
          <a:xfrm>
            <a:off x="193680" y="171288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1836720" y="4270320"/>
            <a:ext cx="68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常用来询问某人去某地的交通方式。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根据人称的变化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1078920" y="4511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19" descr=""/>
          <p:cNvPicPr/>
          <p:nvPr/>
        </p:nvPicPr>
        <p:blipFill>
          <a:blip r:embed="rId3"/>
          <a:stretch/>
        </p:blipFill>
        <p:spPr>
          <a:xfrm>
            <a:off x="2819520" y="284472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211" name="矩形 19"/>
          <p:cNvSpPr/>
          <p:nvPr/>
        </p:nvSpPr>
        <p:spPr>
          <a:xfrm>
            <a:off x="887400" y="3629160"/>
            <a:ext cx="66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w do/does + sb. + go to 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3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1021320" y="163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733400" y="1521000"/>
            <a:ext cx="674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 you go to school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怎样去上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es your grandma go to the pa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奶奶怎样去公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26"/>
          <p:cNvGrpSpPr/>
          <p:nvPr/>
        </p:nvGrpSpPr>
        <p:grpSpPr>
          <a:xfrm>
            <a:off x="614520" y="3324240"/>
            <a:ext cx="1244520" cy="459720"/>
            <a:chOff x="614520" y="3324240"/>
            <a:chExt cx="1244520" cy="459720"/>
          </a:xfrm>
        </p:grpSpPr>
        <p:sp>
          <p:nvSpPr>
            <p:cNvPr id="218" name="TextBox 3"/>
            <p:cNvSpPr/>
            <p:nvPr/>
          </p:nvSpPr>
          <p:spPr>
            <a:xfrm>
              <a:off x="867240" y="332424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14520" y="336276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矩形 2"/>
          <p:cNvSpPr/>
          <p:nvPr/>
        </p:nvSpPr>
        <p:spPr>
          <a:xfrm>
            <a:off x="1733400" y="3214800"/>
            <a:ext cx="639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often go to work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by b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对画线部分提问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833400" y="4481640"/>
            <a:ext cx="759312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8"/>
          <p:cNvSpPr/>
          <p:nvPr/>
        </p:nvSpPr>
        <p:spPr>
          <a:xfrm>
            <a:off x="1733400" y="4470480"/>
            <a:ext cx="67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本题是对交通方式的提问，应该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ow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引导的特殊疑问句，主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you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第二人称，所以借助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构成疑问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5"/>
          <p:cNvSpPr/>
          <p:nvPr/>
        </p:nvSpPr>
        <p:spPr>
          <a:xfrm>
            <a:off x="1768320" y="3889440"/>
            <a:ext cx="45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w do you often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5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9"/>
          <p:cNvSpPr/>
          <p:nvPr/>
        </p:nvSpPr>
        <p:spPr>
          <a:xfrm>
            <a:off x="847800" y="1879560"/>
            <a:ext cx="68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y bike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骑自行车，为介词短语，表示交通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"/>
          <p:cNvSpPr/>
          <p:nvPr/>
        </p:nvSpPr>
        <p:spPr>
          <a:xfrm>
            <a:off x="1900080" y="2525760"/>
            <a:ext cx="552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常见各种交通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by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交通工具的名词单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b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公共汽车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shi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轮船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pla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飞机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tra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火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18" descr=""/>
          <p:cNvPicPr/>
          <p:nvPr/>
        </p:nvPicPr>
        <p:blipFill>
          <a:blip r:embed="rId2"/>
          <a:stretch/>
        </p:blipFill>
        <p:spPr>
          <a:xfrm>
            <a:off x="812880" y="281160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230" name="矩形 16"/>
          <p:cNvSpPr/>
          <p:nvPr/>
        </p:nvSpPr>
        <p:spPr>
          <a:xfrm>
            <a:off x="1234800" y="26607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181160" y="5033880"/>
            <a:ext cx="67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your parent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s://timgsa.baidu.com/timg?image&amp;quality=80&amp;size=b10000_10000&amp;sec=1496412472&amp;di=3943a2f94e31e0a4a17ec27fe51d3e68&amp;src=http://4.pic17.dianzhanggui.net/39463_1dbb841eea5b9e1be37d3d57b50d9464/20121210/bfa9feba3bb8c84e.png"/>
          <p:cNvPicPr/>
          <p:nvPr/>
        </p:nvPicPr>
        <p:blipFill>
          <a:blip r:embed="rId2"/>
          <a:stretch/>
        </p:blipFill>
        <p:spPr>
          <a:xfrm>
            <a:off x="4095720" y="1679400"/>
            <a:ext cx="2847960" cy="307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440080" y="1370160"/>
            <a:ext cx="194292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1"/>
          <p:cNvGrpSpPr/>
          <p:nvPr/>
        </p:nvGrpSpPr>
        <p:grpSpPr>
          <a:xfrm>
            <a:off x="719280" y="1630440"/>
            <a:ext cx="1806480" cy="1514520"/>
            <a:chOff x="719280" y="1630440"/>
            <a:chExt cx="1806480" cy="1514520"/>
          </a:xfrm>
        </p:grpSpPr>
        <p:pic>
          <p:nvPicPr>
            <p:cNvPr id="235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719280" y="163044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文本框 2"/>
            <p:cNvSpPr/>
            <p:nvPr/>
          </p:nvSpPr>
          <p:spPr>
            <a:xfrm>
              <a:off x="1225800" y="195228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2"/>
          <p:cNvSpPr/>
          <p:nvPr/>
        </p:nvSpPr>
        <p:spPr>
          <a:xfrm>
            <a:off x="2266920" y="2971800"/>
            <a:ext cx="615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 b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面要直接加表示交通工具名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单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 “by+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交通工具的名词单数”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可作谓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9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"/>
          <p:cNvSpPr/>
          <p:nvPr/>
        </p:nvSpPr>
        <p:spPr>
          <a:xfrm>
            <a:off x="1459080" y="1494000"/>
            <a:ext cx="67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take a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交通工具的名词单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b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公共汽车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pla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飞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tra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火车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shi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乘轮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"/>
          <p:cNvSpPr/>
          <p:nvPr/>
        </p:nvSpPr>
        <p:spPr>
          <a:xfrm>
            <a:off x="709920" y="3979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9"/>
          <p:cNvSpPr/>
          <p:nvPr/>
        </p:nvSpPr>
        <p:spPr>
          <a:xfrm>
            <a:off x="1413000" y="3741840"/>
            <a:ext cx="45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骑自行车”要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ide a bi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709920" y="4732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1"/>
          <p:cNvSpPr/>
          <p:nvPr/>
        </p:nvSpPr>
        <p:spPr>
          <a:xfrm>
            <a:off x="1544760" y="4492800"/>
            <a:ext cx="775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goes to the park by bike.=He rides a bike to the p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骑自行车去公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18" descr=""/>
          <p:cNvPicPr/>
          <p:nvPr/>
        </p:nvPicPr>
        <p:blipFill>
          <a:blip r:embed="rId2"/>
          <a:stretch/>
        </p:blipFill>
        <p:spPr>
          <a:xfrm>
            <a:off x="284040" y="17924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247" name="矩形 16"/>
          <p:cNvSpPr/>
          <p:nvPr/>
        </p:nvSpPr>
        <p:spPr>
          <a:xfrm>
            <a:off x="705960" y="16416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9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1395360" y="1949400"/>
            <a:ext cx="7515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步行去某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t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on foot = walk t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go to school on foot every day.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lk to school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每天步行去学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13" descr=""/>
          <p:cNvPicPr/>
          <p:nvPr/>
        </p:nvPicPr>
        <p:blipFill>
          <a:blip r:embed="rId2"/>
          <a:stretch/>
        </p:blipFill>
        <p:spPr>
          <a:xfrm>
            <a:off x="249120" y="22496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253" name="矩形 16"/>
          <p:cNvSpPr/>
          <p:nvPr/>
        </p:nvSpPr>
        <p:spPr>
          <a:xfrm>
            <a:off x="672120" y="20988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546120" y="1508040"/>
            <a:ext cx="7570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air work. Tick, talk and wr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431640" y="2795760"/>
            <a:ext cx="2467080" cy="2533320"/>
          </a:xfrm>
          <a:prstGeom prst="rect">
            <a:avLst/>
          </a:prstGeom>
          <a:ln w="0">
            <a:noFill/>
          </a:ln>
        </p:spPr>
      </p:pic>
      <p:sp>
        <p:nvSpPr>
          <p:cNvPr id="257" name="椭圆形标注 1"/>
          <p:cNvSpPr/>
          <p:nvPr/>
        </p:nvSpPr>
        <p:spPr>
          <a:xfrm>
            <a:off x="2886120" y="2781360"/>
            <a:ext cx="5888160" cy="2384280"/>
          </a:xfrm>
          <a:prstGeom prst="wedgeEllipseCallout">
            <a:avLst>
              <a:gd name="adj1" fmla="val -53314"/>
              <a:gd name="adj2" fmla="val -29509"/>
            </a:avLst>
          </a:prstGeom>
          <a:solidFill>
            <a:srgbClr val="ffffff"/>
          </a:solidFill>
          <a:ln w="9360">
            <a:solidFill>
              <a:srgbClr val="971d8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3470400" y="3103560"/>
            <a:ext cx="526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hat does your father / mo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here does he / s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ow does he / s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728640" y="752400"/>
            <a:ext cx="757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y father/mother is 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□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armer  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□teacher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   □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□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s driver   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□worker  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  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/She works...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□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ospital  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□school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□farm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4"/>
          <p:cNvGrpSpPr/>
          <p:nvPr/>
        </p:nvGrpSpPr>
        <p:grpSpPr>
          <a:xfrm>
            <a:off x="2622600" y="1714680"/>
            <a:ext cx="979560" cy="1054080"/>
            <a:chOff x="2622600" y="1714680"/>
            <a:chExt cx="979560" cy="1054080"/>
          </a:xfrm>
        </p:grpSpPr>
        <p:pic>
          <p:nvPicPr>
            <p:cNvPr id="262" name="图片 1" descr=""/>
            <p:cNvPicPr/>
            <p:nvPr/>
          </p:nvPicPr>
          <p:blipFill>
            <a:blip r:embed="rId2"/>
            <a:srcRect l="15608" t="0" r="14739" b="0"/>
            <a:stretch/>
          </p:blipFill>
          <p:spPr>
            <a:xfrm>
              <a:off x="2622600" y="1714680"/>
              <a:ext cx="9795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圆角矩形 10"/>
            <p:cNvSpPr/>
            <p:nvPr/>
          </p:nvSpPr>
          <p:spPr>
            <a:xfrm>
              <a:off x="2622600" y="1770840"/>
              <a:ext cx="979560" cy="877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5127480" y="1652760"/>
            <a:ext cx="1009800" cy="1120680"/>
            <a:chOff x="5127480" y="1652760"/>
            <a:chExt cx="1009800" cy="1120680"/>
          </a:xfrm>
        </p:grpSpPr>
        <p:pic>
          <p:nvPicPr>
            <p:cNvPr id="265" name="图片 2" descr=""/>
            <p:cNvPicPr/>
            <p:nvPr/>
          </p:nvPicPr>
          <p:blipFill>
            <a:blip r:embed="rId3"/>
            <a:srcRect l="20465" t="0" r="14985" b="0"/>
            <a:stretch/>
          </p:blipFill>
          <p:spPr>
            <a:xfrm>
              <a:off x="5172840" y="1652760"/>
              <a:ext cx="9644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圆角矩形 19"/>
            <p:cNvSpPr/>
            <p:nvPr/>
          </p:nvSpPr>
          <p:spPr>
            <a:xfrm>
              <a:off x="5127480" y="1774080"/>
              <a:ext cx="979920" cy="878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4"/>
          <p:cNvGrpSpPr/>
          <p:nvPr/>
        </p:nvGrpSpPr>
        <p:grpSpPr>
          <a:xfrm>
            <a:off x="2592360" y="2738520"/>
            <a:ext cx="1052640" cy="966600"/>
            <a:chOff x="2592360" y="2738520"/>
            <a:chExt cx="1052640" cy="966600"/>
          </a:xfrm>
        </p:grpSpPr>
        <p:pic>
          <p:nvPicPr>
            <p:cNvPr id="268" name="图片 4" descr=""/>
            <p:cNvPicPr/>
            <p:nvPr/>
          </p:nvPicPr>
          <p:blipFill>
            <a:blip r:embed="rId4"/>
            <a:srcRect l="8900" t="0" r="9373" b="0"/>
            <a:stretch/>
          </p:blipFill>
          <p:spPr>
            <a:xfrm>
              <a:off x="2592360" y="2738520"/>
              <a:ext cx="105264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圆角矩形 20"/>
            <p:cNvSpPr/>
            <p:nvPr/>
          </p:nvSpPr>
          <p:spPr>
            <a:xfrm>
              <a:off x="2619000" y="2789280"/>
              <a:ext cx="979560" cy="878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5"/>
          <p:cNvGrpSpPr/>
          <p:nvPr/>
        </p:nvGrpSpPr>
        <p:grpSpPr>
          <a:xfrm>
            <a:off x="5127480" y="2762280"/>
            <a:ext cx="979560" cy="981000"/>
            <a:chOff x="5127480" y="2762280"/>
            <a:chExt cx="979560" cy="981000"/>
          </a:xfrm>
        </p:grpSpPr>
        <p:pic>
          <p:nvPicPr>
            <p:cNvPr id="271" name="图片 3" descr=""/>
            <p:cNvPicPr/>
            <p:nvPr/>
          </p:nvPicPr>
          <p:blipFill>
            <a:blip r:embed="rId5"/>
            <a:srcRect l="22279" t="0" r="19936" b="0"/>
            <a:stretch/>
          </p:blipFill>
          <p:spPr>
            <a:xfrm>
              <a:off x="5236200" y="2762280"/>
              <a:ext cx="754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圆角矩形 21"/>
            <p:cNvSpPr/>
            <p:nvPr/>
          </p:nvSpPr>
          <p:spPr>
            <a:xfrm>
              <a:off x="5127480" y="2788200"/>
              <a:ext cx="979560" cy="879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619360" y="4591080"/>
            <a:ext cx="981000" cy="877680"/>
            <a:chOff x="2619360" y="4591080"/>
            <a:chExt cx="981000" cy="877680"/>
          </a:xfrm>
        </p:grpSpPr>
        <p:pic>
          <p:nvPicPr>
            <p:cNvPr id="274" name="图片 9" descr=""/>
            <p:cNvPicPr/>
            <p:nvPr/>
          </p:nvPicPr>
          <p:blipFill>
            <a:blip r:embed="rId6"/>
            <a:srcRect l="25427" t="14313" r="20061" b="11394"/>
            <a:stretch/>
          </p:blipFill>
          <p:spPr>
            <a:xfrm>
              <a:off x="2638440" y="4655160"/>
              <a:ext cx="934920" cy="77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圆角矩形 28"/>
            <p:cNvSpPr/>
            <p:nvPr/>
          </p:nvSpPr>
          <p:spPr>
            <a:xfrm>
              <a:off x="2619360" y="4591080"/>
              <a:ext cx="981000" cy="877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22"/>
          <p:cNvGrpSpPr/>
          <p:nvPr/>
        </p:nvGrpSpPr>
        <p:grpSpPr>
          <a:xfrm>
            <a:off x="5108400" y="4591080"/>
            <a:ext cx="998640" cy="877680"/>
            <a:chOff x="5108400" y="4591080"/>
            <a:chExt cx="998640" cy="877680"/>
          </a:xfrm>
        </p:grpSpPr>
        <p:pic>
          <p:nvPicPr>
            <p:cNvPr id="277" name="图片 5" descr=""/>
            <p:cNvPicPr/>
            <p:nvPr/>
          </p:nvPicPr>
          <p:blipFill>
            <a:blip r:embed="rId7"/>
            <a:srcRect l="5008" t="0" r="5008" b="0"/>
            <a:stretch/>
          </p:blipFill>
          <p:spPr>
            <a:xfrm>
              <a:off x="5108400" y="4611600"/>
              <a:ext cx="998640" cy="83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圆角矩形 29"/>
            <p:cNvSpPr/>
            <p:nvPr/>
          </p:nvSpPr>
          <p:spPr>
            <a:xfrm>
              <a:off x="5121000" y="4591080"/>
              <a:ext cx="979560" cy="877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16"/>
          <p:cNvGrpSpPr/>
          <p:nvPr/>
        </p:nvGrpSpPr>
        <p:grpSpPr>
          <a:xfrm>
            <a:off x="7502400" y="4591080"/>
            <a:ext cx="979560" cy="877680"/>
            <a:chOff x="7502400" y="4591080"/>
            <a:chExt cx="979560" cy="877680"/>
          </a:xfrm>
        </p:grpSpPr>
        <p:pic>
          <p:nvPicPr>
            <p:cNvPr id="280" name="图片 6" descr=""/>
            <p:cNvPicPr/>
            <p:nvPr/>
          </p:nvPicPr>
          <p:blipFill>
            <a:blip r:embed="rId8"/>
            <a:stretch/>
          </p:blipFill>
          <p:spPr>
            <a:xfrm>
              <a:off x="7515000" y="4668840"/>
              <a:ext cx="966960" cy="73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圆角矩形 30"/>
            <p:cNvSpPr/>
            <p:nvPr/>
          </p:nvSpPr>
          <p:spPr>
            <a:xfrm>
              <a:off x="7502400" y="4591080"/>
              <a:ext cx="979560" cy="877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27655"/>
          <p:cNvGrpSpPr/>
          <p:nvPr/>
        </p:nvGrpSpPr>
        <p:grpSpPr>
          <a:xfrm>
            <a:off x="7504200" y="1774800"/>
            <a:ext cx="979560" cy="878040"/>
            <a:chOff x="7504200" y="1774800"/>
            <a:chExt cx="979560" cy="878040"/>
          </a:xfrm>
        </p:grpSpPr>
        <p:pic>
          <p:nvPicPr>
            <p:cNvPr id="283" name="Picture 2" descr=""/>
            <p:cNvPicPr/>
            <p:nvPr/>
          </p:nvPicPr>
          <p:blipFill>
            <a:blip r:embed="rId9"/>
            <a:srcRect l="3911" t="55645" r="57896" b="2765"/>
            <a:stretch/>
          </p:blipFill>
          <p:spPr>
            <a:xfrm>
              <a:off x="7519320" y="1812240"/>
              <a:ext cx="885240" cy="84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圆角矩形 49"/>
            <p:cNvSpPr/>
            <p:nvPr/>
          </p:nvSpPr>
          <p:spPr>
            <a:xfrm>
              <a:off x="7504200" y="1774800"/>
              <a:ext cx="979560" cy="878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"/>
          <p:cNvSpPr/>
          <p:nvPr/>
        </p:nvSpPr>
        <p:spPr>
          <a:xfrm>
            <a:off x="501480" y="1217520"/>
            <a:ext cx="7570800" cy="73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/She goes to wor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□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y bus                    □by bike                     □by car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y father is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…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                                   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              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                 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     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    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10"/>
          <p:cNvGrpSpPr/>
          <p:nvPr/>
        </p:nvGrpSpPr>
        <p:grpSpPr>
          <a:xfrm>
            <a:off x="603360" y="4381560"/>
            <a:ext cx="8167680" cy="925560"/>
            <a:chOff x="603360" y="4381560"/>
            <a:chExt cx="8167680" cy="925560"/>
          </a:xfrm>
        </p:grpSpPr>
        <p:sp>
          <p:nvSpPr>
            <p:cNvPr id="288" name="直接连接符 2"/>
            <p:cNvSpPr/>
            <p:nvPr/>
          </p:nvSpPr>
          <p:spPr>
            <a:xfrm>
              <a:off x="603360" y="4381560"/>
              <a:ext cx="816768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1"/>
            <p:cNvSpPr/>
            <p:nvPr/>
          </p:nvSpPr>
          <p:spPr>
            <a:xfrm>
              <a:off x="603360" y="4844520"/>
              <a:ext cx="816768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12"/>
            <p:cNvSpPr/>
            <p:nvPr/>
          </p:nvSpPr>
          <p:spPr>
            <a:xfrm>
              <a:off x="603360" y="5307120"/>
              <a:ext cx="8167680" cy="0"/>
            </a:xfrm>
            <a:prstGeom prst="line">
              <a:avLst/>
            </a:prstGeom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6"/>
          <p:cNvGrpSpPr/>
          <p:nvPr/>
        </p:nvGrpSpPr>
        <p:grpSpPr>
          <a:xfrm>
            <a:off x="4606920" y="2082960"/>
            <a:ext cx="1427040" cy="1006200"/>
            <a:chOff x="4606920" y="2082960"/>
            <a:chExt cx="1427040" cy="1006200"/>
          </a:xfrm>
        </p:grpSpPr>
        <p:pic>
          <p:nvPicPr>
            <p:cNvPr id="292" name="图片 15" descr=""/>
            <p:cNvPicPr/>
            <p:nvPr/>
          </p:nvPicPr>
          <p:blipFill>
            <a:blip r:embed="rId2"/>
            <a:srcRect l="8711" t="10658" r="8957" b="11993"/>
            <a:stretch/>
          </p:blipFill>
          <p:spPr>
            <a:xfrm>
              <a:off x="4606920" y="2082960"/>
              <a:ext cx="1421640" cy="100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圆角矩形 17"/>
            <p:cNvSpPr/>
            <p:nvPr/>
          </p:nvSpPr>
          <p:spPr>
            <a:xfrm>
              <a:off x="4606920" y="2088000"/>
              <a:ext cx="1427040" cy="1001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8"/>
          <p:cNvGrpSpPr/>
          <p:nvPr/>
        </p:nvGrpSpPr>
        <p:grpSpPr>
          <a:xfrm>
            <a:off x="1776240" y="2082960"/>
            <a:ext cx="1428840" cy="1000080"/>
            <a:chOff x="1776240" y="2082960"/>
            <a:chExt cx="1428840" cy="1000080"/>
          </a:xfrm>
        </p:grpSpPr>
        <p:pic>
          <p:nvPicPr>
            <p:cNvPr id="295" name="图片 7" descr=""/>
            <p:cNvPicPr/>
            <p:nvPr/>
          </p:nvPicPr>
          <p:blipFill>
            <a:blip r:embed="rId3"/>
            <a:srcRect l="4327" t="7785" r="13416" b="14890"/>
            <a:stretch/>
          </p:blipFill>
          <p:spPr>
            <a:xfrm>
              <a:off x="1776240" y="2082960"/>
              <a:ext cx="14216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圆角矩形 3"/>
            <p:cNvSpPr/>
            <p:nvPr/>
          </p:nvSpPr>
          <p:spPr>
            <a:xfrm>
              <a:off x="1776240" y="2082960"/>
              <a:ext cx="1428840" cy="1000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9"/>
          <p:cNvGrpSpPr/>
          <p:nvPr/>
        </p:nvGrpSpPr>
        <p:grpSpPr>
          <a:xfrm>
            <a:off x="7337520" y="2058840"/>
            <a:ext cx="1433520" cy="1024200"/>
            <a:chOff x="7337520" y="2058840"/>
            <a:chExt cx="1433520" cy="1024200"/>
          </a:xfrm>
        </p:grpSpPr>
        <p:pic>
          <p:nvPicPr>
            <p:cNvPr id="298" name="图片 16" descr=""/>
            <p:cNvPicPr/>
            <p:nvPr/>
          </p:nvPicPr>
          <p:blipFill>
            <a:blip r:embed="rId4"/>
            <a:srcRect l="7048" t="5770" r="4630" b="9776"/>
            <a:stretch/>
          </p:blipFill>
          <p:spPr>
            <a:xfrm>
              <a:off x="7342560" y="2058840"/>
              <a:ext cx="14284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圆角矩形 25"/>
            <p:cNvSpPr/>
            <p:nvPr/>
          </p:nvSpPr>
          <p:spPr>
            <a:xfrm>
              <a:off x="7337520" y="2076120"/>
              <a:ext cx="1428480" cy="1002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855720" y="1211400"/>
            <a:ext cx="8153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根据图片及首字母提示补全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My brother is a t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She works at a h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He d__________ to 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3510000" y="273060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3429000" y="404640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305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6593040" y="1955880"/>
            <a:ext cx="1012680" cy="1471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3"/>
          <a:stretch/>
        </p:blipFill>
        <p:spPr>
          <a:xfrm>
            <a:off x="6213600" y="3594240"/>
            <a:ext cx="1769760" cy="1125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4"/>
          <a:stretch/>
        </p:blipFill>
        <p:spPr>
          <a:xfrm>
            <a:off x="6296040" y="4894200"/>
            <a:ext cx="1663560" cy="10065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1922400" y="53593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716040" y="1349280"/>
            <a:ext cx="774216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根据汉语提示完成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—Where does your father ________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工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a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My father usually goes to work __________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步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31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4"/>
          <p:cNvSpPr/>
          <p:nvPr/>
        </p:nvSpPr>
        <p:spPr>
          <a:xfrm>
            <a:off x="957240" y="3871800"/>
            <a:ext cx="7747200" cy="2068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0"/>
          <p:cNvSpPr/>
          <p:nvPr/>
        </p:nvSpPr>
        <p:spPr>
          <a:xfrm>
            <a:off x="1800360" y="3875040"/>
            <a:ext cx="6750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本题考查“步行”的表达方式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alk to..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go to...on foo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由于句子中已经有了谓语动词，所以不能再用动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alk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“步行”， 应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n foo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4465800" y="2055960"/>
            <a:ext cx="14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5214960" y="322092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1173240" y="1476360"/>
            <a:ext cx="77421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给句子选择合适的答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(1) What does your mo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(2) Where does s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(3) How does s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 (4) Does your mother like her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Yes, she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By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he works at a hos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 She is a n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1312920" y="210996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32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矩形 1"/>
          <p:cNvSpPr/>
          <p:nvPr/>
        </p:nvSpPr>
        <p:spPr>
          <a:xfrm>
            <a:off x="2260440" y="4132440"/>
            <a:ext cx="3822840" cy="1989000"/>
          </a:xfrm>
          <a:prstGeom prst="rect">
            <a:avLst/>
          </a:prstGeom>
          <a:noFill/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312920" y="261936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312920" y="31291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1312920" y="36370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1009800" y="1203480"/>
            <a:ext cx="71308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"/>
          <p:cNvSpPr/>
          <p:nvPr/>
        </p:nvSpPr>
        <p:spPr>
          <a:xfrm>
            <a:off x="1033560" y="2503440"/>
            <a:ext cx="76374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ctor, nurse, worker, work,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ive to, by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your fa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does he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es she go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goes to work by bike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8" descr=""/>
          <p:cNvPicPr/>
          <p:nvPr/>
        </p:nvPicPr>
        <p:blipFill>
          <a:blip r:embed="rId1"/>
          <a:stretch/>
        </p:blipFill>
        <p:spPr>
          <a:xfrm>
            <a:off x="1927080" y="208080"/>
            <a:ext cx="5924520" cy="615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313240" y="1677960"/>
            <a:ext cx="305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y father is a teac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re does he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He works at a scho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He drives to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y mother is a doctor.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he works at a hospi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he goes to work by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rcRect l="1769" t="1551" r="0" b="49228"/>
          <a:stretch/>
        </p:blipFill>
        <p:spPr>
          <a:xfrm>
            <a:off x="1015920" y="1812960"/>
            <a:ext cx="408960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rcRect l="1769" t="50779" r="0" b="0"/>
          <a:stretch/>
        </p:blipFill>
        <p:spPr>
          <a:xfrm>
            <a:off x="1015920" y="3821040"/>
            <a:ext cx="40896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4"/>
          <p:cNvSpPr/>
          <p:nvPr/>
        </p:nvSpPr>
        <p:spPr>
          <a:xfrm>
            <a:off x="0" y="0"/>
            <a:ext cx="922968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3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38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文本框 8" descr=""/>
          <p:cNvPicPr/>
          <p:nvPr/>
        </p:nvPicPr>
        <p:blipFill>
          <a:blip r:embed="rId1"/>
          <a:stretch/>
        </p:blipFill>
        <p:spPr>
          <a:xfrm>
            <a:off x="1927080" y="208080"/>
            <a:ext cx="5924520" cy="615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4983120" y="1008000"/>
            <a:ext cx="35258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y aunt Wanrong is a n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How does she go to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he goes to work by b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y uncle Zhiwei is a wor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He walks to 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rcRect l="0" t="0" r="0" b="49956"/>
          <a:stretch/>
        </p:blipFill>
        <p:spPr>
          <a:xfrm>
            <a:off x="874800" y="1417680"/>
            <a:ext cx="4014720" cy="174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rcRect l="0" t="50007" r="0" b="0"/>
          <a:stretch/>
        </p:blipFill>
        <p:spPr>
          <a:xfrm>
            <a:off x="874800" y="3363840"/>
            <a:ext cx="4014720" cy="17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7"/>
          <p:cNvSpPr/>
          <p:nvPr/>
        </p:nvSpPr>
        <p:spPr>
          <a:xfrm>
            <a:off x="2670120" y="1482840"/>
            <a:ext cx="37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es your father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爸爸是做什么工作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8"/>
          <p:cNvSpPr/>
          <p:nvPr/>
        </p:nvSpPr>
        <p:spPr>
          <a:xfrm>
            <a:off x="849240" y="16336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9"/>
          <p:cNvSpPr/>
          <p:nvPr/>
        </p:nvSpPr>
        <p:spPr>
          <a:xfrm>
            <a:off x="1335240" y="163512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9" descr="book.gif"/>
          <p:cNvPicPr/>
          <p:nvPr/>
        </p:nvPicPr>
        <p:blipFill>
          <a:blip r:embed="rId2"/>
          <a:stretch/>
        </p:blipFill>
        <p:spPr>
          <a:xfrm>
            <a:off x="276120" y="152568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80" name="矩形 5"/>
          <p:cNvSpPr/>
          <p:nvPr/>
        </p:nvSpPr>
        <p:spPr>
          <a:xfrm>
            <a:off x="1274760" y="2932200"/>
            <a:ext cx="13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7"/>
          <p:cNvSpPr/>
          <p:nvPr/>
        </p:nvSpPr>
        <p:spPr>
          <a:xfrm>
            <a:off x="2238480" y="2813040"/>
            <a:ext cx="513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为常见的询问某人职业的句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/does + sb. +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同义句型还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+ be + sb.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 s sb’ s j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1274760" y="5289480"/>
            <a:ext cx="13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2238480" y="5189400"/>
            <a:ext cx="55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b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a/an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职业的名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3"/>
          <a:stretch/>
        </p:blipFill>
        <p:spPr>
          <a:xfrm>
            <a:off x="6440400" y="2035080"/>
            <a:ext cx="1143000" cy="6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6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1021320" y="177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800360" y="1666800"/>
            <a:ext cx="674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es your uncle do? / What is your uncl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What’ s your uncle’ s j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叔叔是做什么工作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a teacher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是一名教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6"/>
          <p:cNvGrpSpPr/>
          <p:nvPr/>
        </p:nvGrpSpPr>
        <p:grpSpPr>
          <a:xfrm>
            <a:off x="709560" y="4734000"/>
            <a:ext cx="1244520" cy="459720"/>
            <a:chOff x="709560" y="4734000"/>
            <a:chExt cx="1244520" cy="459720"/>
          </a:xfrm>
        </p:grpSpPr>
        <p:sp>
          <p:nvSpPr>
            <p:cNvPr id="91" name="TextBox 3"/>
            <p:cNvSpPr/>
            <p:nvPr/>
          </p:nvSpPr>
          <p:spPr>
            <a:xfrm>
              <a:off x="962280" y="47340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09560" y="477252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矩形 2"/>
          <p:cNvSpPr/>
          <p:nvPr/>
        </p:nvSpPr>
        <p:spPr>
          <a:xfrm>
            <a:off x="1800360" y="4570560"/>
            <a:ext cx="63943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es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usin, what, do, your (?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连词成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1960560" y="536580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at does your cousin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7"/>
          <p:cNvSpPr/>
          <p:nvPr/>
        </p:nvSpPr>
        <p:spPr>
          <a:xfrm>
            <a:off x="3491640" y="1776240"/>
            <a:ext cx="21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职业的词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18"/>
          <p:cNvSpPr/>
          <p:nvPr/>
        </p:nvSpPr>
        <p:spPr>
          <a:xfrm>
            <a:off x="920880" y="18954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9"/>
          <p:cNvSpPr/>
          <p:nvPr/>
        </p:nvSpPr>
        <p:spPr>
          <a:xfrm>
            <a:off x="1190520" y="186516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819520" y="3040200"/>
            <a:ext cx="527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is a do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是一名医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9" descr="book.gif"/>
          <p:cNvPicPr/>
          <p:nvPr/>
        </p:nvPicPr>
        <p:blipFill>
          <a:blip r:embed="rId2"/>
          <a:stretch/>
        </p:blipFill>
        <p:spPr>
          <a:xfrm>
            <a:off x="149400" y="17971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03" name="矩形 1"/>
          <p:cNvSpPr/>
          <p:nvPr/>
        </p:nvSpPr>
        <p:spPr>
          <a:xfrm>
            <a:off x="1838160" y="3276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934640" y="5416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9"/>
          <p:cNvSpPr/>
          <p:nvPr/>
        </p:nvSpPr>
        <p:spPr>
          <a:xfrm>
            <a:off x="2833560" y="517536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e a docto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医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1702440" y="4726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音近词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1"/>
          <p:cNvSpPr/>
          <p:nvPr/>
        </p:nvSpPr>
        <p:spPr>
          <a:xfrm>
            <a:off x="2819520" y="4484520"/>
            <a:ext cx="37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ughter /'dɔːtə(r)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女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2" descr=""/>
          <p:cNvPicPr/>
          <p:nvPr/>
        </p:nvPicPr>
        <p:blipFill>
          <a:blip r:embed="rId3"/>
          <a:stretch/>
        </p:blipFill>
        <p:spPr>
          <a:xfrm>
            <a:off x="6310440" y="177336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9"/>
          <p:cNvSpPr/>
          <p:nvPr/>
        </p:nvSpPr>
        <p:spPr>
          <a:xfrm>
            <a:off x="1876320" y="2343240"/>
            <a:ext cx="75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ctor /'dɒkt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医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4"/>
          <a:stretch/>
        </p:blipFill>
        <p:spPr>
          <a:xfrm>
            <a:off x="6240600" y="2463840"/>
            <a:ext cx="23320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2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6"/>
          <p:cNvGrpSpPr/>
          <p:nvPr/>
        </p:nvGrpSpPr>
        <p:grpSpPr>
          <a:xfrm>
            <a:off x="1044720" y="2373480"/>
            <a:ext cx="1244520" cy="459720"/>
            <a:chOff x="1044720" y="2373480"/>
            <a:chExt cx="1244520" cy="459720"/>
          </a:xfrm>
        </p:grpSpPr>
        <p:sp>
          <p:nvSpPr>
            <p:cNvPr id="115" name="TextBox 3"/>
            <p:cNvSpPr/>
            <p:nvPr/>
          </p:nvSpPr>
          <p:spPr>
            <a:xfrm>
              <a:off x="1297440" y="23734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44720" y="241200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矩形 2"/>
          <p:cNvSpPr/>
          <p:nvPr/>
        </p:nvSpPr>
        <p:spPr>
          <a:xfrm>
            <a:off x="2336760" y="2133720"/>
            <a:ext cx="639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you are sick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生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, you should see a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oliceman        B. doctor       C. teacher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2438280" y="3095640"/>
            <a:ext cx="14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0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9"/>
          <p:cNvSpPr/>
          <p:nvPr/>
        </p:nvSpPr>
        <p:spPr>
          <a:xfrm>
            <a:off x="1352520" y="155268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urse /nɜː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护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2259000" y="31939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aunt is a nu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阿姨是一名护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1499760" y="2651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2513880" y="2392200"/>
            <a:ext cx="30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ɜ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149652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1641960" y="5037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3486600" y="504684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rs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钱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6243480" y="2050920"/>
            <a:ext cx="1976760" cy="36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18:04Z</dcterms:modified>
  <cp:revision>67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